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9BA-04B8-40E9-8934-2CAE7AC5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3EE-382E-412B-86CA-3C3A7F00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05F-07E9-4BDE-9A66-067D12ED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E2A-8F4F-47B8-8E93-78C7007D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3534-D228-49AD-AB59-2D43CF05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804A-2E72-4A27-A2DD-34E29148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07EF-4CDF-4CC7-87D9-341D214D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C7D0-8CDF-458D-AC94-4896DEE0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2B94-6029-41AF-B2C9-172AD9D7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62E2-3702-4949-9639-577931B0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D6A7-7317-4DAE-8E8E-0D0A679F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005-8E66-448A-AF83-8F5E048A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081A-CF50-4E7E-AA59-21EEFAF6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C683-500A-441E-9294-385A2A15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18FB-0A91-4075-9F33-4D43FBB0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8213-F5DC-4133-A346-F24A8A7C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6F4D-76CA-4AD6-AF84-97128F83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68EB-8392-49B1-A94E-8E758022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069-EEDA-4575-91CC-96786376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9D4-4752-4EB9-8591-F33D7730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F69-1C8F-480B-8263-55C9076E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D64-405E-43AB-87D4-B7C56FE7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240-29E5-46D7-8E34-928BD7D4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6D8-EE23-42B0-880F-8075F8C8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A18F-D13B-4185-BD36-D6418E6BB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4791-C4A4-4EFB-9E43-3049F71E3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br>
              <a:rPr sz="8000"/>
            </a:b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By: Cheyenne M., Jordan G., Tyler W.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14760" y="16002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5238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in B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1676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16765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6120" y="1468440"/>
            <a:ext cx="77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8920" y="325116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Is it “Klu Klux Klan” or “Ku Klux Klan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0720" y="3168720"/>
            <a:ext cx="28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u Klux Kla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5200" y="2971800"/>
            <a:ext cx="797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s a government group council or couns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1440" y="316872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Counci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92880" y="3168720"/>
            <a:ext cx="49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What does dessert mean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2880" y="3168720"/>
            <a:ext cx="42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Final course of a m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rot="1396200">
            <a:off x="614520" y="3200040"/>
            <a:ext cx="76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To feel happy, is it feel good or feel w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850800">
            <a:off x="1888920" y="2971800"/>
            <a:ext cx="32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eel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8600" y="24382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ree examples that should be capitalized only when used as part of or in place of  proper nou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14600" y="251460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High Scho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Seni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Ba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Riv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16720" y="3048120"/>
            <a:ext cx="87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What are three requirements for standard envelop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2880" y="3168720"/>
            <a:ext cx="477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is the preposition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tw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to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1080" y="31687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220040" y="2971800"/>
            <a:ext cx="53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d18"/>
                </a:solidFill>
                <a:latin typeface="Times New Roman"/>
              </a:rPr>
              <a:t>How do you spell the word that h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d18"/>
                </a:solidFill>
                <a:latin typeface="Times New Roman"/>
              </a:rPr>
              <a:t>the meaning of the build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0720" y="3022560"/>
            <a:ext cx="197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pito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2160" y="3168720"/>
            <a:ext cx="675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remember how to sp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gratulation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146960" y="3124080"/>
            <a:ext cx="69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s to think of the expression s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y people and greeting cards u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94480" y="2971800"/>
            <a:ext cx="85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man is spelled fiancé, how is a woman’s spell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1800" y="316872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ancé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3124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word that is a noun and means writing materials, and how do you spell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1800" y="316872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tion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82080" y="3317760"/>
            <a:ext cx="611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Dark Blue or Black in so scanners will 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All capital letters, block sty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itle of respect for addressee but not for 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No punc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Business name on second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95760" y="3200400"/>
            <a:ext cx="736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false impression or decep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ppearance, and how is it spel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89280" y="3121200"/>
            <a:ext cx="170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llu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146960" y="2286000"/>
            <a:ext cx="57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baby-sitter, or baby sit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1800" y="316872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by-si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375200" y="3124080"/>
            <a:ext cx="725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is a doubl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 occurred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ccurring, occurrences, but you do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it in what wor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891440" y="31687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cc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85200" y="31240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word means to go or come before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cede or proce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1800" y="316872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ce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3960" y="31687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o you hyphenate a frac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3600" y="3168720"/>
            <a:ext cx="42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it’s an adj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3240" y="3168720"/>
            <a:ext cx="61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Is complement a noun or a verb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83880" y="3219480"/>
            <a:ext cx="47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it definitely or difin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2160" y="316872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ite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92880" y="3168720"/>
            <a:ext cx="67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is it: Abingdon or Abingt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0720" y="316872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ngd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1800" y="3168720"/>
            <a:ext cx="430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would you say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oud or out lou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0720" y="31687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ou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34360" y="3276720"/>
            <a:ext cx="81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refers to distance: further or farth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1440" y="31687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r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2880" y="3168720"/>
            <a:ext cx="67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do you say, try to or try a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1440" y="3168720"/>
            <a:ext cx="13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y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0360" y="3168720"/>
            <a:ext cx="12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Nou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2160" y="3168720"/>
            <a:ext cx="67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 praise something do you say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liment or complem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2520" y="316872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li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84240" y="3219480"/>
            <a:ext cx="49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What does “precede” mean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2520" y="3168720"/>
            <a:ext cx="47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To go or to come befo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09800" y="3200400"/>
            <a:ext cx="47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“ 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To receive willingly”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at except or accept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1440" y="316872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Accep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31</cp:lastModifiedBy>
  <dcterms:modified xsi:type="dcterms:W3CDTF">2010-05-19T15:06:41Z</dcterms:modified>
  <cp:revision>19</cp:revision>
  <dc:subject/>
  <dc:title>Jeopardy</dc:title>
</cp:coreProperties>
</file>